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057-D7F3-45CF-AC5F-8656F5EC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1863-6107-4574-A695-0ECF08A9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F5E-D592-4248-BDC0-484503EC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ABA-1BA5-477A-A3CC-7893BEB6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149F-EEC1-43F5-8DF9-288B57DB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0D5C-7F6C-4072-B001-AF56BD90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4DCD-188B-496B-82E2-83FAB03F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8A1D-6C11-402A-9B5B-AE8BB496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3452-869F-4604-8233-1778928D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207-92C2-4CB5-828E-C722E3B9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0C2-5160-4F0E-A403-54CBA37B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ED56-1F6C-462F-BF11-EEE7A603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66E7-3DAE-4254-90BF-48AFFCD9F1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: Food, 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:  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50292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B: machinery, chemicals, foo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257800" y="6019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: manufactured goods, chemicals &amp; fu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es the United Kingdom ex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 manufactured goods, chemicals &amp; fu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" fill="hold"/>
                                        <p:tgtEl>
                                          <p:spTgt spid="5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3352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: Prime Mini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35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: Qu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334120" y="4876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B: Secretary of Homeland 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257800" y="60357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: Secretary of Defe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the Head of Parliamen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" fill="hold"/>
                                        <p:tgtEl>
                                          <p:spTgt spid="6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: Prime Min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5943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3352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: Piz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35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: Sp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952880" y="5029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B: Bangers and Ma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952880" y="6095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: Spaghet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popular food made up of mashed potatoes and sausa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" fill="hold"/>
                                        <p:tgtEl>
                                          <p:spTgt spid="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1" fill="hold"/>
                                        <p:tgtEl>
                                          <p:spTgt spid="7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: Bangers and M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468a4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468a4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468a4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8a4b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7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75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200"/>
                            </p:stCondLst>
                            <p:childTnLst>
                              <p:par>
                                <p:cTn id="22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700"/>
                            </p:stCondLst>
                            <p:childTnLst>
                              <p:par>
                                <p:cTn id="2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200"/>
                            </p:stCondLst>
                            <p:childTnLst>
                              <p:par>
                                <p:cTn id="2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1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5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: Parlia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: Bicameral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: Dictato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: Unicam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orm of government used in the United Kingd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" fill="hold"/>
                                        <p:tgtEl>
                                          <p:spTgt spid="8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" dur="1" fill="hold"/>
                                        <p:tgtEl>
                                          <p:spTgt spid="8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: Par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9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: Y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:  dol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: P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: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currency used in the United Kingd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1" fill="hold"/>
                                        <p:tgtEl>
                                          <p:spTgt spid="9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1" fill="hold"/>
                                        <p:tgtEl>
                                          <p:spTgt spid="9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: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" fill="hold"/>
                                        <p:tgtEl>
                                          <p:spTgt spid="10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:  Bangers and Ma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60958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: Fish and C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: Sandw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: Watermel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popular food called that is made up of fish and fried potato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1" fill="hold"/>
                                        <p:tgtEl>
                                          <p:spTgt spid="1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1" fill="hold"/>
                                        <p:tgtEl>
                                          <p:spTgt spid="1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: Fish and C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1" fill="hold"/>
                                        <p:tgtEl>
                                          <p:spTgt spid="1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4197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Hinduis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: Buddh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: Musl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: Christia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2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most popular religion in the United Kingd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3" dur="1" fill="hold"/>
                                        <p:tgtEl>
                                          <p:spTgt spid="1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1" fill="hold"/>
                                        <p:tgtEl>
                                          <p:spTgt spid="1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 Christia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" fill="hold"/>
                                        <p:tgtEl>
                                          <p:spTgt spid="1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7621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: House of Lords &amp; House of Comm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838080" y="5943600"/>
            <a:ext cx="3657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: House of Lords, and Executive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952880" y="50292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B: Judiciary, Execu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952880" y="60958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: Legislative, Execu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35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United Kingdoms’ parliament is divided into which two hous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" fill="hold"/>
                                        <p:tgtEl>
                                          <p:spTgt spid="1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" fill="hold"/>
                                        <p:tgtEl>
                                          <p:spTgt spid="1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: House of Lords &amp; House of Comm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468a4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67" name="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468a4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468a4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8a4b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1" fill="hold"/>
                                        <p:tgtEl>
                                          <p:spTgt spid="1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75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20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6700"/>
                            </p:stCondLst>
                            <p:childTnLst>
                              <p:par>
                                <p:cTn id="4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9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7200"/>
                            </p:stCondLst>
                            <p:childTnLst>
                              <p:par>
                                <p:cTn id="4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1" fill="hold"/>
                                        <p:tgtEl>
                                          <p:spTgt spid="1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: 60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: 9, 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: 22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: 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8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any people live in the United Kingd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1" fill="hold"/>
                                        <p:tgtEl>
                                          <p:spTgt spid="1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1" fill="hold"/>
                                        <p:tgtEl>
                                          <p:spTgt spid="14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75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: 60 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1" dur="1" fill="hold"/>
                                        <p:tgtEl>
                                          <p:spTgt spid="1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228600" y="5943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Pres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53352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: Queen / Royal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:  A Dicta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: Prime Mini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1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the head of state in the United Kingdom govern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1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1" fill="hold"/>
                                        <p:tgtEl>
                                          <p:spTgt spid="16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500"/>
                            </p:stCondLst>
                            <p:childTnLst>
                              <p:par>
                                <p:cTn id="4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6" dur="1" fill="hold"/>
                                        <p:tgtEl>
                                          <p:spTgt spid="16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7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4952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:  England, Scotland, Northern Ireland, W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60199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: England, France, Wales, Ire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9528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B: Wales, France, Scotland, Ire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6019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: France, Norway, Ireland, W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United Kingdom is made up of which four count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: Queen / Royal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3" dur="1" fill="hold"/>
                                        <p:tgtEl>
                                          <p:spTgt spid="1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: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: 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:7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: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3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average life expectancy in the United Kingd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4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2" dur="1" fill="hold"/>
                                        <p:tgtEl>
                                          <p:spTgt spid="17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8" dur="1" fill="hold"/>
                                        <p:tgtEl>
                                          <p:spTgt spid="1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7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:7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5" dur="1" fill="hold"/>
                                        <p:tgtEl>
                                          <p:spTgt spid="1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: primary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33520" y="6095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: Graduate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: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4952880" y="60958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: secondary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6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685800" y="68580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type of school do you attend from ages   5-11, and is similar to elementary school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6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" fill="hold"/>
                                        <p:tgtEl>
                                          <p:spTgt spid="18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0" dur="1" fill="hold"/>
                                        <p:tgtEl>
                                          <p:spTgt spid="18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7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: primary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9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: Northern Eur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: As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: South Ame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: Central Ame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8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re is the United Kingdom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9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6" dur="1" fill="hold"/>
                                        <p:tgtEl>
                                          <p:spTgt spid="19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2" dur="1" fill="hold"/>
                                        <p:tgtEl>
                                          <p:spTgt spid="19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75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: Norther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– England, Scotland, Northern Ireland, Wal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6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997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998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5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06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14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23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31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9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40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7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48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56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064" name="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9" dur="1" fill="hold"/>
                                        <p:tgtEl>
                                          <p:spTgt spid="19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63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0" fill="hold"/>
                                        <p:tgtEl>
                                          <p:spTgt spid="2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0" fill="hold"/>
                                        <p:tgtEl>
                                          <p:spTgt spid="2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: Stars and B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60958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: Union J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5029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: Stars and Stri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: The P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ickname for the flag of the United Kingd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Union J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21:36:51Z</dcterms:created>
  <dc:creator>Karla Stander</dc:creator>
  <dc:description/>
  <dc:language>en-US</dc:language>
  <cp:lastModifiedBy>kurk</cp:lastModifiedBy>
  <dcterms:modified xsi:type="dcterms:W3CDTF">2008-11-20T15:37:57Z</dcterms:modified>
  <cp:revision>7</cp:revision>
  <dc:subject/>
  <dc:title>Slide 1</dc:title>
</cp:coreProperties>
</file>